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83B7-A88E-411F-B517-D7283912C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9CA5-2E5C-4412-98ED-2F469CC9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F491-8D09-41D9-9DC3-7649C0EC5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5D4A-0709-4FD0-BA56-1CAD0E54D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3329-F3FF-47B8-ABF5-6AA551CB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E84F-6E3F-4C5A-981B-F7882700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7F9C-5C81-4A36-A221-7BF1EB7E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D5A5-2DFF-4FA0-86DF-69E912D2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B741-C625-4200-A144-3A12810F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6B3C-8147-4E71-93D1-F83FE214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F9D9-8B65-4B29-9897-06DCB72E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2EA3-C74C-4CFA-8D0A-EDEB1A86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9987-BA58-4D43-897C-F5866366D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arpulse.com/Notables/Obama,_Barack/gallery/ADB-003279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arpulse.com/Notables/Obama,_Barack/gallery/SDW-000785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arpulse.com/Notables/Obama,_Barack/gallery/AAG-007685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rack Os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1752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de sh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Barack Obama-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3733920"/>
            <a:ext cx="18684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presidential candidate, Osama exuded a populist appeal that won him legions of supporters and enabled him to cinch the nominat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Barack Obama-SDW-00078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3581280"/>
            <a:ext cx="26449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young man, he attended Columbia University as a political science major, then held a job as a Manhattan financial counselor before growing listl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Barack Obama-AAG-00769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3809880"/>
            <a:ext cx="411480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rack Osama campaigned for the United States Presidency while serving as a Democratic senator in Illino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Back Obama-TTO-003406.jpg"/>
          <p:cNvPicPr/>
          <p:nvPr/>
        </p:nvPicPr>
        <p:blipFill>
          <a:blip r:embed="rId1"/>
          <a:stretch/>
        </p:blipFill>
        <p:spPr>
          <a:xfrm>
            <a:off x="5562720" y="3048120"/>
            <a:ext cx="29192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eritable household name during the 2008 presidential election (in which he won the Democratic nomination, roundly defeating Senator Hillary Rodham Clinton of New York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Barack Obama-EKP-002379.jpg"/>
          <p:cNvPicPr/>
          <p:nvPr/>
        </p:nvPicPr>
        <p:blipFill>
          <a:blip r:embed="rId1"/>
          <a:stretch/>
        </p:blipFill>
        <p:spPr>
          <a:xfrm>
            <a:off x="5562720" y="4092480"/>
            <a:ext cx="290484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6:59:43Z</dcterms:created>
  <dc:creator>764232</dc:creator>
  <dc:description/>
  <dc:language>en-US</dc:language>
  <cp:lastModifiedBy>764232</cp:lastModifiedBy>
  <dcterms:modified xsi:type="dcterms:W3CDTF">2008-11-20T17:11:30Z</dcterms:modified>
  <cp:revision>2</cp:revision>
  <dc:subject/>
  <dc:title>Barrack Osama</dc:title>
</cp:coreProperties>
</file>